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EB5F-7B27-4D65-BB7C-E5510FF1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2C03-388C-440A-9A89-53A9F5E9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D2D-68B6-4060-8903-EACDE783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215-DB1A-485D-9AF3-021547AB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AF1-B37F-4A8C-B06B-4934BC83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243D-0056-417A-9ED3-B930346E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ADB7-AA44-4FFB-B791-9C506363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F74-176F-4688-AE78-54EE3BFF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563-7343-48F6-9F57-10145ED3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6BB7-EB7A-4AAE-9901-E3ADD697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053-F507-4D33-BF6D-5D94D6AD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FAD-45D1-4910-8CD3-19183E51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3D6C-C325-4DD9-8A78-726BF86A3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Me llamo _________  Clase 701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La fecha es el 30 de septiembre del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447560"/>
            <a:ext cx="9067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t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b050"/>
                </a:solidFill>
                <a:latin typeface="Arial"/>
              </a:rPr>
              <a:t>TOMAR </a:t>
            </a:r>
            <a:r>
              <a:rPr b="1" lang="es-ES_tradnl" sz="3200" spc="-1" strike="noStrike" u="sng">
                <a:solidFill>
                  <a:srgbClr val="00b050"/>
                </a:solidFill>
                <a:uFillTx/>
                <a:latin typeface="Arial"/>
              </a:rPr>
              <a:t>QUIZ: REPAS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ropa llevas ho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a fam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s par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s miemb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atlantablackstar.com/wp-content/uploads/2013/05/will-smith-family.jpg"/>
          <p:cNvPicPr/>
          <p:nvPr/>
        </p:nvPicPr>
        <p:blipFill>
          <a:blip r:embed="rId1"/>
          <a:stretch/>
        </p:blipFill>
        <p:spPr>
          <a:xfrm>
            <a:off x="4530600" y="923760"/>
            <a:ext cx="43848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encrypted-tbn1.gstatic.com/images?q=tbn:ANd9GcSOX3KFw13RLFCTTfAjvUhUApBIPI30xLrZ9hHolvMrmLgkL1dC"/>
          <p:cNvPicPr/>
          <p:nvPr/>
        </p:nvPicPr>
        <p:blipFill>
          <a:blip r:embed="rId1"/>
          <a:stretch/>
        </p:blipFill>
        <p:spPr>
          <a:xfrm>
            <a:off x="571680" y="0"/>
            <a:ext cx="2108160" cy="304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s://encrypted-tbn1.gstatic.com/images?q=tbn:ANd9GcSylOVBrYXEzBaPNslg5hU4cm8aGi7t9g6__v3HJs0cEkpTcDwU"/>
          <p:cNvPicPr/>
          <p:nvPr/>
        </p:nvPicPr>
        <p:blipFill>
          <a:blip r:embed="rId2"/>
          <a:stretch/>
        </p:blipFill>
        <p:spPr>
          <a:xfrm>
            <a:off x="6248520" y="0"/>
            <a:ext cx="2073240" cy="304812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914400" y="3800520"/>
            <a:ext cx="1628640" cy="244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4"/>
          <a:stretch/>
        </p:blipFill>
        <p:spPr>
          <a:xfrm>
            <a:off x="6477120" y="3726000"/>
            <a:ext cx="2522520" cy="2522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7696080" y="3657600"/>
            <a:ext cx="133848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3206880" y="151776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os pa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09480" y="30481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a m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301080" y="2971800"/>
            <a:ext cx="17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El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83808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3000" spc="-1" strike="noStrike">
                <a:solidFill>
                  <a:srgbClr val="0033cc"/>
                </a:solidFill>
                <a:latin typeface="Verdana"/>
              </a:rPr>
              <a:t>el hij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6400800" y="62024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a h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3200400" y="3611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os h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3276720" y="46022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o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3352680" y="559260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3124080" y="20574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2971800" y="41148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parents k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2971800" y="510048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brother/s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2895480" y="609588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sib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 familia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mith-Pinke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tros par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bu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ab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gem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ni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ni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2743200" y="1600200"/>
            <a:ext cx="2438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grand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2666880" y="2209680"/>
            <a:ext cx="2667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grand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5181480" y="1828800"/>
            <a:ext cx="2438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abu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2"/>
          <p:cNvSpPr/>
          <p:nvPr/>
        </p:nvSpPr>
        <p:spPr>
          <a:xfrm>
            <a:off x="6400800" y="22860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grand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981080" y="2773440"/>
            <a:ext cx="2438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un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2133720" y="335268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a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2"/>
          <p:cNvSpPr/>
          <p:nvPr/>
        </p:nvSpPr>
        <p:spPr>
          <a:xfrm>
            <a:off x="3048120" y="300204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2"/>
          <p:cNvSpPr/>
          <p:nvPr/>
        </p:nvSpPr>
        <p:spPr>
          <a:xfrm>
            <a:off x="5105520" y="3048120"/>
            <a:ext cx="2819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uncles &amp; a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2514600" y="3916440"/>
            <a:ext cx="2438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male cou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2590920" y="4525920"/>
            <a:ext cx="3200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female cou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2"/>
          <p:cNvSpPr/>
          <p:nvPr/>
        </p:nvSpPr>
        <p:spPr>
          <a:xfrm>
            <a:off x="5181480" y="4221000"/>
            <a:ext cx="2438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pri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7543800" y="433872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cous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3276720" y="5105520"/>
            <a:ext cx="1600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t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2362320" y="5638680"/>
            <a:ext cx="32004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male grand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2438280" y="6248520"/>
            <a:ext cx="35053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female grand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5334120" y="582120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ni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7467480" y="586728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grandk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una hoja aparte, inventa una familia y crea un árbol familiar de la familia. CREATIVIDAD POR FAVO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bes te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bu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í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d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i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erma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8:03:02Z</dcterms:created>
  <dc:creator>Helen Zumaeta</dc:creator>
  <dc:description/>
  <dc:language>en-US</dc:language>
  <cp:lastModifiedBy>Helen Zumaeta</cp:lastModifiedBy>
  <cp:lastPrinted>2014-09-30T15:05:46Z</cp:lastPrinted>
  <dcterms:modified xsi:type="dcterms:W3CDTF">2014-09-30T19:35:40Z</dcterms:modified>
  <cp:revision>19</cp:revision>
  <dc:subject/>
  <dc:title>Slide 1</dc:title>
</cp:coreProperties>
</file>